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9144000" cy="5145088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A46E5FB-3841-4C90-B824-D06595826635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61FB3106-5BE0-410A-9EF5-DFE73B7E569F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"/>
          <p:cNvPicPr/>
          <p:nvPr/>
        </p:nvPicPr>
        <p:blipFill>
          <a:blip r:embed="rId3"/>
          <a:stretch/>
        </p:blipFill>
        <p:spPr>
          <a:xfrm>
            <a:off x="731880" y="4572000"/>
            <a:ext cx="890640" cy="3510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C768620-E29E-4C64-8A4A-FC77BBCD3652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5"/>
          <p:cNvSpPr/>
          <p:nvPr/>
        </p:nvSpPr>
        <p:spPr>
          <a:xfrm flipV="1">
            <a:off x="0" y="0"/>
            <a:ext cx="9144000" cy="1176480"/>
          </a:xfrm>
          <a:prstGeom prst="rect">
            <a:avLst/>
          </a:prstGeom>
          <a:solidFill>
            <a:srgbClr val="0c3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traight Connector 6"/>
          <p:cNvSpPr/>
          <p:nvPr/>
        </p:nvSpPr>
        <p:spPr>
          <a:xfrm>
            <a:off x="628560" y="993600"/>
            <a:ext cx="2130480" cy="0"/>
          </a:xfrm>
          <a:prstGeom prst="line">
            <a:avLst/>
          </a:prstGeom>
          <a:ln w="3816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Picture 7" descr=""/>
          <p:cNvPicPr/>
          <p:nvPr/>
        </p:nvPicPr>
        <p:blipFill>
          <a:blip r:embed="rId3"/>
          <a:stretch/>
        </p:blipFill>
        <p:spPr>
          <a:xfrm>
            <a:off x="731880" y="4572000"/>
            <a:ext cx="890640" cy="351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BDA0ED8A-317B-4C43-A3DF-53D46348365B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5"/>
          <p:cNvSpPr/>
          <p:nvPr/>
        </p:nvSpPr>
        <p:spPr>
          <a:xfrm>
            <a:off x="0" y="0"/>
            <a:ext cx="3887640" cy="5143680"/>
          </a:xfrm>
          <a:prstGeom prst="rect">
            <a:avLst/>
          </a:prstGeom>
          <a:solidFill>
            <a:srgbClr val="0c3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6" descr="A black and white logo&#10;&#10;Description automatically generated with low confidence"/>
          <p:cNvPicPr/>
          <p:nvPr/>
        </p:nvPicPr>
        <p:blipFill>
          <a:blip r:embed="rId3"/>
          <a:stretch/>
        </p:blipFill>
        <p:spPr>
          <a:xfrm>
            <a:off x="549360" y="4597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475" name="Straight Connector 7"/>
          <p:cNvSpPr/>
          <p:nvPr/>
        </p:nvSpPr>
        <p:spPr>
          <a:xfrm>
            <a:off x="549360" y="1546200"/>
            <a:ext cx="1915920" cy="0"/>
          </a:xfrm>
          <a:prstGeom prst="line">
            <a:avLst/>
          </a:prstGeom>
          <a:ln w="3816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B3A2C29-981D-47DC-A934-500A132354CB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5"/>
          <p:cNvSpPr/>
          <p:nvPr/>
        </p:nvSpPr>
        <p:spPr>
          <a:xfrm>
            <a:off x="0" y="0"/>
            <a:ext cx="3887640" cy="5143680"/>
          </a:xfrm>
          <a:prstGeom prst="rect">
            <a:avLst/>
          </a:prstGeom>
          <a:solidFill>
            <a:srgbClr val="a13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6" descr="A black and white logo&#10;&#10;Description automatically generated with low confidence"/>
          <p:cNvPicPr/>
          <p:nvPr/>
        </p:nvPicPr>
        <p:blipFill>
          <a:blip r:embed="rId3"/>
          <a:stretch/>
        </p:blipFill>
        <p:spPr>
          <a:xfrm>
            <a:off x="549360" y="4597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518" name="Straight Connector 7"/>
          <p:cNvSpPr/>
          <p:nvPr/>
        </p:nvSpPr>
        <p:spPr>
          <a:xfrm>
            <a:off x="549360" y="1546200"/>
            <a:ext cx="1915920" cy="0"/>
          </a:xfrm>
          <a:prstGeom prst="line">
            <a:avLst/>
          </a:prstGeom>
          <a:ln w="3816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F292E7FC-C424-4A1D-B7DB-D9916F49F01C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5" descr=""/>
          <p:cNvPicPr/>
          <p:nvPr/>
        </p:nvPicPr>
        <p:blipFill>
          <a:blip r:embed="rId3"/>
          <a:stretch/>
        </p:blipFill>
        <p:spPr>
          <a:xfrm>
            <a:off x="731880" y="4572000"/>
            <a:ext cx="890640" cy="3510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92625D9-4370-47C0-82CC-2D1A3645FEDB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"/>
          <p:cNvPicPr/>
          <p:nvPr/>
        </p:nvPicPr>
        <p:blipFill>
          <a:blip r:embed="rId3"/>
          <a:stretch/>
        </p:blipFill>
        <p:spPr>
          <a:xfrm>
            <a:off x="731880" y="4572000"/>
            <a:ext cx="890640" cy="3510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A812038-BBBD-4DAD-B501-D7641F4CAFFF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0" y="0"/>
            <a:ext cx="9144000" cy="4264200"/>
          </a:xfrm>
          <a:prstGeom prst="rect">
            <a:avLst/>
          </a:prstGeom>
          <a:solidFill>
            <a:srgbClr val="0c3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A purple and blue logo&#10;&#10;Description automatically generated with low confidence"/>
          <p:cNvPicPr/>
          <p:nvPr/>
        </p:nvPicPr>
        <p:blipFill>
          <a:blip r:embed="rId3"/>
          <a:stretch/>
        </p:blipFill>
        <p:spPr>
          <a:xfrm>
            <a:off x="623880" y="4448160"/>
            <a:ext cx="1157400" cy="455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DB118B44-061C-4058-BB9D-DCA649BE19D3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c3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A black and white logo&#10;&#10;Description automatically generated with low confidence"/>
          <p:cNvPicPr/>
          <p:nvPr/>
        </p:nvPicPr>
        <p:blipFill>
          <a:blip r:embed="rId3"/>
          <a:stretch/>
        </p:blipFill>
        <p:spPr>
          <a:xfrm>
            <a:off x="3938760" y="3943440"/>
            <a:ext cx="1266480" cy="500040"/>
          </a:xfrm>
          <a:prstGeom prst="rect">
            <a:avLst/>
          </a:prstGeom>
          <a:ln w="0">
            <a:noFill/>
          </a:ln>
        </p:spPr>
      </p:pic>
      <p:sp>
        <p:nvSpPr>
          <p:cNvPr id="86" name="Straight Connector 7"/>
          <p:cNvSpPr/>
          <p:nvPr/>
        </p:nvSpPr>
        <p:spPr>
          <a:xfrm>
            <a:off x="1143000" y="2571840"/>
            <a:ext cx="6858000" cy="0"/>
          </a:xfrm>
          <a:prstGeom prst="line">
            <a:avLst/>
          </a:prstGeom>
          <a:ln w="3816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790D5741-4F4D-40BA-B95D-29CDFA223920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C6AEB82-339C-4E83-B9DD-14B589FAD5DF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3"/>
          <a:stretch/>
        </p:blipFill>
        <p:spPr>
          <a:xfrm>
            <a:off x="731880" y="4572000"/>
            <a:ext cx="890640" cy="351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B67534B0-38DB-44F5-8C93-E0930342887B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469800" y="330120"/>
            <a:ext cx="8132760" cy="4162680"/>
          </a:xfrm>
          <a:prstGeom prst="rect">
            <a:avLst/>
          </a:prstGeom>
          <a:solidFill>
            <a:srgbClr val="ffffff"/>
          </a:solidFill>
          <a:ln w="127080">
            <a:solidFill>
              <a:srgbClr val="0641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30120" y="3689280"/>
            <a:ext cx="2365560" cy="10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3"/>
          <a:stretch/>
        </p:blipFill>
        <p:spPr>
          <a:xfrm>
            <a:off x="396720" y="43149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8326E212-57EF-4915-B452-2FAA92DE2FC6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5"/>
          <p:cNvSpPr/>
          <p:nvPr/>
        </p:nvSpPr>
        <p:spPr>
          <a:xfrm>
            <a:off x="469800" y="339840"/>
            <a:ext cx="8132760" cy="4162320"/>
          </a:xfrm>
          <a:prstGeom prst="rect">
            <a:avLst/>
          </a:prstGeom>
          <a:solidFill>
            <a:srgbClr val="ffffff"/>
          </a:solidFill>
          <a:ln w="12708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30120" y="3689280"/>
            <a:ext cx="2365560" cy="10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396720" y="43149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86D5F384-2129-4F5A-8B76-E53B9AC48C71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0" y="1157400"/>
            <a:ext cx="9144000" cy="3986280"/>
          </a:xfrm>
          <a:prstGeom prst="rect">
            <a:avLst/>
          </a:prstGeom>
          <a:solidFill>
            <a:srgbClr val="0c3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623880" y="1527120"/>
            <a:ext cx="7896240" cy="2825640"/>
          </a:xfrm>
          <a:prstGeom prst="rect">
            <a:avLst/>
          </a:prstGeom>
          <a:noFill/>
          <a:ln w="3816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7" descr="A black and white logo&#10;&#10;Description automatically generated with low confidence"/>
          <p:cNvPicPr/>
          <p:nvPr/>
        </p:nvPicPr>
        <p:blipFill>
          <a:blip r:embed="rId3"/>
          <a:stretch/>
        </p:blipFill>
        <p:spPr>
          <a:xfrm>
            <a:off x="771480" y="4572000"/>
            <a:ext cx="890640" cy="352440"/>
          </a:xfrm>
          <a:prstGeom prst="rect">
            <a:avLst/>
          </a:prstGeom>
          <a:ln w="0">
            <a:noFill/>
          </a:ln>
        </p:spPr>
      </p:pic>
      <p:sp>
        <p:nvSpPr>
          <p:cNvPr id="258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9CBC0B6-970F-40CC-8C4F-F9FD2C3D4269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BF08B58B-9D2B-4A80-94A1-560C6F2D2DEE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5"/>
          <p:cNvSpPr/>
          <p:nvPr/>
        </p:nvSpPr>
        <p:spPr>
          <a:xfrm>
            <a:off x="2941560" y="0"/>
            <a:ext cx="6202440" cy="1881360"/>
          </a:xfrm>
          <a:prstGeom prst="rect">
            <a:avLst/>
          </a:prstGeom>
          <a:solidFill>
            <a:srgbClr val="a13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2941560" y="1436760"/>
            <a:ext cx="6202440" cy="3706920"/>
          </a:xfrm>
          <a:prstGeom prst="rect">
            <a:avLst/>
          </a:prstGeom>
          <a:solidFill>
            <a:srgbClr val="0c3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7" descr="A black and white logo&#10;&#10;Description automatically generated with low confidence"/>
          <p:cNvPicPr/>
          <p:nvPr/>
        </p:nvPicPr>
        <p:blipFill>
          <a:blip r:embed="rId3"/>
          <a:stretch/>
        </p:blipFill>
        <p:spPr>
          <a:xfrm>
            <a:off x="34383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302" name="Straight Connector 8"/>
          <p:cNvSpPr/>
          <p:nvPr/>
        </p:nvSpPr>
        <p:spPr>
          <a:xfrm>
            <a:off x="3438360" y="1441440"/>
            <a:ext cx="2095560" cy="0"/>
          </a:xfrm>
          <a:prstGeom prst="line">
            <a:avLst/>
          </a:prstGeom>
          <a:ln w="3816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Placeholder 14"/>
          <p:cNvSpPr/>
          <p:nvPr/>
        </p:nvSpPr>
        <p:spPr>
          <a:xfrm>
            <a:off x="5859360" y="4524480"/>
            <a:ext cx="2941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5BD213D0-9426-4452-BCDA-AF3C306A5CF0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A5CCD42-1FDD-4D4B-B822-5CD8D4F66AB1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5"/>
          <p:cNvSpPr/>
          <p:nvPr/>
        </p:nvSpPr>
        <p:spPr>
          <a:xfrm>
            <a:off x="0" y="1881360"/>
            <a:ext cx="9144000" cy="3262320"/>
          </a:xfrm>
          <a:prstGeom prst="rect">
            <a:avLst/>
          </a:prstGeom>
          <a:solidFill>
            <a:srgbClr val="0c3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0" y="0"/>
            <a:ext cx="9144000" cy="1881360"/>
          </a:xfrm>
          <a:prstGeom prst="rect">
            <a:avLst/>
          </a:prstGeom>
          <a:solidFill>
            <a:srgbClr val="a13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traight Connector 7"/>
          <p:cNvSpPr/>
          <p:nvPr/>
        </p:nvSpPr>
        <p:spPr>
          <a:xfrm>
            <a:off x="623880" y="1881360"/>
            <a:ext cx="4809960" cy="0"/>
          </a:xfrm>
          <a:prstGeom prst="line">
            <a:avLst/>
          </a:prstGeom>
          <a:ln w="3816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Picture 8" descr="A black and white logo&#10;&#10;Description automatically generated with low confidence"/>
          <p:cNvPicPr/>
          <p:nvPr/>
        </p:nvPicPr>
        <p:blipFill>
          <a:blip r:embed="rId3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348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59F5437-6EF8-467E-BB69-78D3A6ABD8C0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23880" y="583920"/>
            <a:ext cx="7886880" cy="15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500" spc="-1" strike="noStrike">
              <a:solidFill>
                <a:srgbClr val="a13e97"/>
              </a:solidFill>
              <a:latin typeface="Rift Bol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23880" y="2425680"/>
            <a:ext cx="788688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692680" y="584280"/>
            <a:ext cx="281808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1000" spc="-1" strike="noStrike">
              <a:solidFill>
                <a:srgbClr val="ffffff"/>
              </a:solidFill>
              <a:latin typeface="Merriweather Ligh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692680" y="3639600"/>
            <a:ext cx="2818080" cy="2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i="1" lang="en-US" sz="1200" spc="-1" strike="noStrike">
              <a:solidFill>
                <a:srgbClr val="ffffff"/>
              </a:solidFill>
              <a:latin typeface="Merriweather"/>
            </a:endParaRPr>
          </a:p>
        </p:txBody>
      </p:sp>
      <p:sp>
        <p:nvSpPr>
          <p:cNvPr id="643" name="Straight Connector 5"/>
          <p:cNvSpPr/>
          <p:nvPr/>
        </p:nvSpPr>
        <p:spPr>
          <a:xfrm>
            <a:off x="623880" y="2311560"/>
            <a:ext cx="4094280" cy="0"/>
          </a:xfrm>
          <a:prstGeom prst="line">
            <a:avLst/>
          </a:prstGeom>
          <a:ln w="3816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21880" y="633600"/>
            <a:ext cx="74264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13e97"/>
              </a:solidFill>
              <a:latin typeface="Rift Bold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821880" y="1301760"/>
            <a:ext cx="7426440" cy="2844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21880" y="644040"/>
            <a:ext cx="74264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821880" y="1310760"/>
            <a:ext cx="7426440" cy="284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69440" y="743040"/>
            <a:ext cx="294804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13e97"/>
              </a:solidFill>
              <a:latin typeface="Rift Bold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4285800" y="612720"/>
            <a:ext cx="4388040" cy="378936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69440" y="1669680"/>
            <a:ext cx="2948040" cy="27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69440" y="743040"/>
            <a:ext cx="294804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Rift Bold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4285800" y="612720"/>
            <a:ext cx="4388040" cy="3789360"/>
          </a:xfrm>
          <a:prstGeom prst="rect">
            <a:avLst/>
          </a:prstGeom>
          <a:ln w="0">
            <a:noFill/>
          </a:ln>
        </p:spPr>
      </p:pic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69440" y="1669680"/>
            <a:ext cx="2948040" cy="27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23880" y="649440"/>
            <a:ext cx="78868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500" spc="-1" strike="noStrike">
              <a:solidFill>
                <a:srgbClr val="ffffff"/>
              </a:solidFill>
              <a:latin typeface="Rift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23880" y="2120760"/>
            <a:ext cx="7886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8560" y="274320"/>
            <a:ext cx="788688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13e97"/>
              </a:solidFill>
              <a:latin typeface="Rift Bold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628200" y="1369800"/>
            <a:ext cx="3886200" cy="29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628880" y="1369800"/>
            <a:ext cx="3886200" cy="29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43000" y="8409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500" spc="-1" strike="noStrike">
              <a:solidFill>
                <a:srgbClr val="a13e97"/>
              </a:solidFill>
              <a:latin typeface="Rift Bol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143000" y="2701440"/>
            <a:ext cx="68580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Straight Connector 3"/>
          <p:cNvSpPr/>
          <p:nvPr/>
        </p:nvSpPr>
        <p:spPr>
          <a:xfrm>
            <a:off x="1143000" y="2571840"/>
            <a:ext cx="6858000" cy="0"/>
          </a:xfrm>
          <a:prstGeom prst="line">
            <a:avLst/>
          </a:prstGeom>
          <a:ln w="3816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24240" y="650520"/>
            <a:ext cx="54468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Rift Bol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324240" y="1749600"/>
            <a:ext cx="54468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294156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442800"/>
            <a:ext cx="78868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13e97"/>
              </a:solidFill>
              <a:latin typeface="Rift Bold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628560" y="1191960"/>
            <a:ext cx="7886880" cy="3173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8560" y="406080"/>
            <a:ext cx="788688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13e97"/>
              </a:solidFill>
              <a:latin typeface="Rift Bold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628200" y="1106640"/>
            <a:ext cx="3886200" cy="32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628880" y="1106640"/>
            <a:ext cx="3886200" cy="32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3880" y="369720"/>
            <a:ext cx="788688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500" spc="-1" strike="noStrike">
              <a:solidFill>
                <a:srgbClr val="a13e97"/>
              </a:solidFill>
              <a:latin typeface="Rift Bol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71480" y="1685520"/>
            <a:ext cx="75931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30000" y="933120"/>
            <a:ext cx="294948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13e97"/>
              </a:solidFill>
              <a:latin typeface="Rift Bold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887280" y="741240"/>
            <a:ext cx="462924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30000" y="1542960"/>
            <a:ext cx="294948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30000" y="637560"/>
            <a:ext cx="788652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c3a5a"/>
              </a:solidFill>
              <a:latin typeface="Rift Bold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30360" y="1260360"/>
            <a:ext cx="386856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a13e97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30360" y="1879200"/>
            <a:ext cx="3868560" cy="24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28880" y="1260360"/>
            <a:ext cx="388764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a13e97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628880" y="1879200"/>
            <a:ext cx="3887640" cy="24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14T17:40:08Z</dcterms:created>
  <dc:creator>Mary Roche</dc:creator>
  <dc:description/>
  <dc:language>en-US</dc:language>
  <cp:lastModifiedBy>Mary Roche</cp:lastModifiedBy>
  <cp:lastPrinted>2022-11-17T05:37:45Z</cp:lastPrinted>
  <dcterms:modified xsi:type="dcterms:W3CDTF">2023-09-21T20:01:11Z</dcterms:modified>
  <cp:revision>10</cp:revision>
  <dc:subject/>
  <dc:title>REMAINING NONPARTISAN IN THE AGE OF MIS- AND DIS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9E978F74782EAC43B4096357BDBD3C40</vt:lpwstr>
  </property>
</Properties>
</file>