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9BC8819-DBE8-4CA5-A4CA-506A8AFDBAB1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8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FBFBC8C-7D87-4C01-AF39-5DEB3822AA9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2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8B4F2BF-B00F-4152-AA4B-32E4F152C074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6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2D62BBB-1A38-495E-B2FD-5193FC16871D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0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C0BFA54-C331-4F8E-A565-9F02D9CD7A4E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4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048DE0E-29A9-4CFF-ADEB-F62A0E5CA547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9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73D7ADF-69F4-4835-96D6-09A984E61468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3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0261272-E0D8-4D79-AFAF-0A8C91E23392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314280" y="0"/>
            <a:ext cx="8515440" cy="154296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314280" y="1425600"/>
            <a:ext cx="851544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314280" y="0"/>
            <a:ext cx="4043520" cy="4486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7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8D2D7E6-DBE4-44B8-B9E7-9C75702C743C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17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990BFE5-05C9-4396-B6AD-22B3751B1944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59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EF6B26B-8D34-43E7-8A03-FD59B7880FCD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0" y="452520"/>
            <a:ext cx="9144000" cy="57780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4839E76-DC26-4E98-886A-1E8662D8FA5F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650880" y="4424400"/>
            <a:ext cx="1994040" cy="59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0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9992675-2CAA-44B8-BAE0-CCDFDB148A1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traight Connector 1"/>
          <p:cNvSpPr/>
          <p:nvPr/>
        </p:nvSpPr>
        <p:spPr>
          <a:xfrm>
            <a:off x="4572000" y="1370160"/>
            <a:ext cx="0" cy="310644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E9CAA1D-5328-4810-A7E6-10B89AFB59ED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traight Connector 1"/>
          <p:cNvSpPr/>
          <p:nvPr/>
        </p:nvSpPr>
        <p:spPr>
          <a:xfrm>
            <a:off x="4572000" y="1123920"/>
            <a:ext cx="0" cy="3378240"/>
          </a:xfrm>
          <a:prstGeom prst="line">
            <a:avLst/>
          </a:prstGeom>
          <a:ln w="6480">
            <a:solidFill>
              <a:srgbClr val="0c5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8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51B8B06-4AA8-4133-B7FC-0AED05F53FC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2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E093F66-FE14-46D9-9A46-293ACFE2C2B0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6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17909DE-A35D-43F6-84DB-51CAD9C57ED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E266C29-F6BD-49A8-9215-B60C5BCFE05B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0" y="0"/>
            <a:ext cx="9144000" cy="40845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476280" y="4424400"/>
            <a:ext cx="1995480" cy="59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4"/>
          <a:srcRect l="40358" t="-4115" r="-2212" b="26924"/>
          <a:stretch/>
        </p:blipFill>
        <p:spPr>
          <a:xfrm>
            <a:off x="0" y="3206880"/>
            <a:ext cx="2709720" cy="1485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55ABA81-3363-4BBF-9170-8398321449C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98480" y="946080"/>
            <a:ext cx="7547040" cy="2530440"/>
          </a:xfrm>
          <a:prstGeom prst="rect">
            <a:avLst/>
          </a:prstGeom>
          <a:solidFill>
            <a:srgbClr val="0c57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3"/>
          <a:srcRect l="50223" t="-4115" r="-2212" b="43437"/>
          <a:stretch/>
        </p:blipFill>
        <p:spPr>
          <a:xfrm>
            <a:off x="0" y="3344760"/>
            <a:ext cx="2689200" cy="1379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7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31FE9BC-A7BE-4032-8B54-F05709E80CD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1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01CA3D9-90CE-4F77-9E96-C25FD6499DA1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70FC258-C2F5-4C2C-9048-F4A5F6280A9D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88880" y="520560"/>
            <a:ext cx="8166240" cy="3381480"/>
          </a:xfrm>
          <a:prstGeom prst="rect">
            <a:avLst/>
          </a:prstGeom>
          <a:solidFill>
            <a:srgbClr val="0c5797"/>
          </a:solidFill>
          <a:ln w="19080">
            <a:solidFill>
              <a:srgbClr val="be0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3"/>
          <a:srcRect l="49848" t="-4115" r="-2212" b="26924"/>
          <a:stretch/>
        </p:blipFill>
        <p:spPr>
          <a:xfrm>
            <a:off x="0" y="3411360"/>
            <a:ext cx="2435400" cy="1576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A257DB1-CC8B-4C26-903C-334FACEC8077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4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C273AC6-6DBD-44B7-858E-9A36DCAE9FF1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1444680"/>
            <a:ext cx="7873920" cy="120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Lato Black"/>
              </a:rPr>
              <a:t>CLICK TO ADD TITLE</a:t>
            </a:r>
            <a:endParaRPr b="1" lang="en-US" sz="38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50880" y="2646000"/>
            <a:ext cx="78739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8608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be0f34"/>
              </a:solidFill>
              <a:latin typeface="Merriweather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28608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c5797"/>
              </a:solidFill>
              <a:latin typeface="Arial Black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3244320" y="730080"/>
            <a:ext cx="528012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650880" y="1111320"/>
            <a:ext cx="7873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Box 1"/>
          <p:cNvSpPr/>
          <p:nvPr/>
        </p:nvSpPr>
        <p:spPr>
          <a:xfrm>
            <a:off x="1844640" y="120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628200" y="361440"/>
            <a:ext cx="3729240" cy="3824280"/>
          </a:xfrm>
          <a:prstGeom prst="rect">
            <a:avLst/>
          </a:prstGeom>
          <a:ln w="0">
            <a:noFill/>
          </a:ln>
        </p:spPr>
      </p:pic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0" y="636480"/>
            <a:ext cx="39434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0" y="1542960"/>
            <a:ext cx="3943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144000" cy="6508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02840" y="1193400"/>
            <a:ext cx="409428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4646160" y="1193400"/>
            <a:ext cx="4094280" cy="31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28640" y="1603080"/>
            <a:ext cx="76867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Lato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728640" y="3016080"/>
            <a:ext cx="76867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1624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be0f34"/>
              </a:solidFill>
              <a:latin typeface="Merriweather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21624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c5797"/>
              </a:solidFill>
              <a:latin typeface="Arial Black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3216240" y="73476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728640" y="1220760"/>
            <a:ext cx="7686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Box 1"/>
          <p:cNvSpPr/>
          <p:nvPr/>
        </p:nvSpPr>
        <p:spPr>
          <a:xfrm>
            <a:off x="2278080" y="1420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38052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74768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77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83984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83984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3308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3308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0880" y="130032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c57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80880" y="577800"/>
            <a:ext cx="8391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80880" y="1258560"/>
            <a:ext cx="8391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798480" y="1147320"/>
            <a:ext cx="75470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Lato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798480" y="2822040"/>
            <a:ext cx="754704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12880" y="871560"/>
            <a:ext cx="75182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095120" y="2859120"/>
            <a:ext cx="723564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095120" y="3120840"/>
            <a:ext cx="723564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c5797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5T16:02:27Z</dcterms:created>
  <dc:creator>JoAnn Antoine</dc:creator>
  <dc:description/>
  <dc:language>en-US</dc:language>
  <cp:lastModifiedBy>Mary Roche</cp:lastModifiedBy>
  <dcterms:modified xsi:type="dcterms:W3CDTF">2023-06-14T17:20:1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</Properties>
</file>