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7DA6617-5970-48CC-B3FA-1EF6216EC8B3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8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F4235C9-FBCB-40D4-B8EC-3CEEEAD5D8EB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2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9B6BDCC-F9AF-4149-89D0-EC1206C4EC64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6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3A501FE-4209-48B6-8273-01E5BC8B8BE5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0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496E4A4-D0EB-4FD7-B907-FBB8F92DB330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46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CF0FDE3-416F-4B98-BE08-D8F7E339D5D6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8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2AB5E3C-A41F-4ED7-AD16-72E470A5DE5B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3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A066FBA-AECD-414D-ACA4-7670D589A5E7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14280" y="0"/>
            <a:ext cx="8515440" cy="154296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314280" y="1425600"/>
            <a:ext cx="851544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314280" y="0"/>
            <a:ext cx="4043520" cy="448632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7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73FB8EE-1733-47ED-A316-9C1733294E9B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1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F4CC169-54AE-41CC-8F17-2010805D1EA1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57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766BC97-E0A7-4768-A315-3F3B3F95E269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0" y="452520"/>
            <a:ext cx="9144000" cy="57780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B895971-E430-464C-9B69-9F548D851A69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41227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650880" y="4424400"/>
            <a:ext cx="1994040" cy="59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9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8BFA504-9BE9-488F-8D87-211A27B1F74E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traight Connector 3"/>
          <p:cNvSpPr/>
          <p:nvPr/>
        </p:nvSpPr>
        <p:spPr>
          <a:xfrm>
            <a:off x="4572000" y="1370160"/>
            <a:ext cx="0" cy="3106440"/>
          </a:xfrm>
          <a:prstGeom prst="line">
            <a:avLst/>
          </a:prstGeom>
          <a:ln w="6480">
            <a:solidFill>
              <a:srgbClr val="4e1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39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A4293EB-B2F1-487B-BBC2-1A9322884AB8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traight Connector 3"/>
          <p:cNvSpPr/>
          <p:nvPr/>
        </p:nvSpPr>
        <p:spPr>
          <a:xfrm>
            <a:off x="4572000" y="1150920"/>
            <a:ext cx="0" cy="3282840"/>
          </a:xfrm>
          <a:prstGeom prst="line">
            <a:avLst/>
          </a:prstGeom>
          <a:ln w="6480">
            <a:solidFill>
              <a:srgbClr val="4e1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8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4C04A9E-D60F-439F-A96C-6C75E594B04D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2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EA09BCC-25CF-4E3C-ACEB-3C508198F308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6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6B906AD-4D7E-484C-A415-8801949EE640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1DBC3CF-BF91-4DBE-9F30-17724B9EC6EC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9144000" cy="41227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476280" y="4424400"/>
            <a:ext cx="1995480" cy="598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1663560" y="-230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A7DE4EC-C5FC-48AB-A236-79969B7A8DC5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98480" y="946080"/>
            <a:ext cx="7547040" cy="2530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5A43FAD-6F35-433C-876F-8B3677A2ED7A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1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6C8E9D7-4FA0-4818-A857-F81B950766BF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5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C72BC25-4200-41F7-BAB7-79601F567218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88880" y="520560"/>
            <a:ext cx="8166240" cy="3381480"/>
          </a:xfrm>
          <a:prstGeom prst="rect">
            <a:avLst/>
          </a:prstGeom>
          <a:noFill/>
          <a:ln w="1908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96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160D8A2-3DB4-42ED-ADC4-445C01109F3D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C41BB80-11D7-425D-AAF7-DCD40DA6E57C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28640" y="1603080"/>
            <a:ext cx="768672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eda400"/>
              </a:solidFill>
              <a:latin typeface="Lato Black"/>
              <a:ea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728640" y="3016080"/>
            <a:ext cx="7686720" cy="2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  <a:ea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16240" y="442404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4e1c54"/>
              </a:solidFill>
              <a:latin typeface="Merriweather"/>
              <a:ea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3216240" y="466848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eca400"/>
              </a:solidFill>
              <a:latin typeface="Arial Black"/>
              <a:ea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3216240" y="73476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eca400"/>
              </a:solidFill>
              <a:latin typeface="Merriweather"/>
              <a:ea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728640" y="1220760"/>
            <a:ext cx="7686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4e1c54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eca400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628200" y="361440"/>
            <a:ext cx="3729240" cy="382428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0" y="636480"/>
            <a:ext cx="39434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0" y="1542960"/>
            <a:ext cx="39434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50880" y="1668600"/>
            <a:ext cx="7873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eca400"/>
              </a:solidFill>
              <a:latin typeface="Lato Black"/>
              <a:ea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50880" y="2869920"/>
            <a:ext cx="787392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  <a:ea typeface="Arial Black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03280" y="953640"/>
            <a:ext cx="53211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eca400"/>
              </a:solidFill>
              <a:latin typeface="Merriweather"/>
              <a:ea typeface="Arial Black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3327120" y="4424040"/>
            <a:ext cx="51973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4e1c54"/>
              </a:solidFill>
              <a:latin typeface="Merriweather"/>
              <a:ea typeface="Arial Black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3327120" y="4668480"/>
            <a:ext cx="51973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eca400"/>
              </a:solidFill>
              <a:latin typeface="Arial Black"/>
              <a:ea typeface="Arial Black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650880" y="1281240"/>
            <a:ext cx="78739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312840"/>
            <a:ext cx="9144000" cy="6508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02840" y="1193400"/>
            <a:ext cx="409428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4646160" y="1193400"/>
            <a:ext cx="4094280" cy="31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38052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74768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33440" y="274320"/>
            <a:ext cx="82771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83984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83984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3308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3308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graphicFrame>
        <p:nvGraphicFramePr>
          <p:cNvPr id="1015" name="Content Placeholder 3"/>
          <p:cNvGraphicFramePr/>
          <p:nvPr/>
        </p:nvGraphicFramePr>
        <p:xfrm>
          <a:off x="330120" y="1249200"/>
          <a:ext cx="849312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49200"/>
                    <a:ext cx="849312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80880" y="577800"/>
            <a:ext cx="8391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380880" y="1258560"/>
            <a:ext cx="8391600" cy="314172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380880" y="131616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4"/>
          <p:cNvSpPr/>
          <p:nvPr/>
        </p:nvSpPr>
        <p:spPr>
          <a:xfrm>
            <a:off x="3895560" y="-138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0880" y="131616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4"/>
          <p:cNvSpPr/>
          <p:nvPr/>
        </p:nvSpPr>
        <p:spPr>
          <a:xfrm>
            <a:off x="3895560" y="-138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76240" y="1111320"/>
            <a:ext cx="740088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eca400"/>
              </a:solidFill>
              <a:latin typeface="Lato Black"/>
              <a:ea typeface="Arial Blac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876240" y="2796840"/>
            <a:ext cx="74008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600" spc="-1" strike="noStrike">
              <a:solidFill>
                <a:srgbClr val="f8f7f5"/>
              </a:solidFill>
              <a:latin typeface="Merriweather"/>
              <a:ea typeface="Arial Black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12880" y="716040"/>
            <a:ext cx="75182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095120" y="2873160"/>
            <a:ext cx="7235640" cy="2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eca400"/>
              </a:solidFill>
              <a:latin typeface="Arial Black"/>
              <a:ea typeface="Arial Black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095120" y="3135240"/>
            <a:ext cx="72356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5T16:02:27Z</dcterms:created>
  <dc:creator>JoAnn Antoine</dc:creator>
  <dc:description/>
  <dc:language>en-US</dc:language>
  <cp:lastModifiedBy>Mary Roche</cp:lastModifiedBy>
  <dcterms:modified xsi:type="dcterms:W3CDTF">2023-06-14T17:22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E978F74782EAC43B4096357BDBD3C40</vt:lpwstr>
  </property>
  <property fmtid="{D5CDD505-2E9C-101B-9397-08002B2CF9AE}" pid="3" name="MediaServiceImageTags">
    <vt:lpwstr/>
  </property>
</Properties>
</file>